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7F1A-3982-42FB-8169-F981195D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waves can not travel through liquid. This is how we know Earth has a liquid outer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147-FF2E-40B5-8B0E-DBC56BF0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1D0-DF0B-4DDD-90A5-A2B2F6B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81B-328E-402A-8EDF-8B10FABA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F98-9822-4F4D-9F19-70895475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27DC-7F49-4C45-AB06-4E74A40F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67E9-1CFB-4383-94CF-72A36AF0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CCC3-3230-4BC6-A462-04339089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BC32-E822-4EBC-9958-EBACC27B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38AC-A079-44A8-BBED-BBAF193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90B3-212B-4C69-AFE6-5CC7E10C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CF5-527C-4E0E-A47D-7DAB43EA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5AC-EF58-4955-8B0A-19180F6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E405-5144-431A-9B9B-A84543C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63B7-C3BF-4D72-8441-B1A01B6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1A04-99BC-4A8B-AA2F-4919E13D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43D5-97E3-4983-8C2A-DEA53237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16B0-4A08-4661-9B3A-4E8EE991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71F-BBDD-4490-B4F9-5FDFC6E0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AE7-F6C9-4634-B46A-96A9364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0D4-B6B9-4A88-8A02-CB8BC7BD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7E2-94BE-460F-9931-2CB1C852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F9A-9357-48EB-AA9C-D33F4E8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1BA-E36D-40F4-AC37-FA41B38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F11-B9B3-4075-AB67-003EE46C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E793-7DFA-4101-9F12-F4B69DCE4B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0684-85E7-4193-BBBA-7E4BD4387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ter 19, p495 (CP book)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724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(P-wave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tch and pull rocks in the same direction that the wave is carrying i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 firs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6576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724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(S-wave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 rocks to move at right angles to the direction the wave is carrying i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 after P-wa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0440" y="1523880"/>
            <a:ext cx="3619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724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face waves - move in two directions and travel along Earth’s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1689120"/>
            <a:ext cx="35560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5867280" cy="990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versus epi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957400"/>
            <a:ext cx="914400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me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ismograph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nsitive instrument used to record vib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gram - data collected by the seismo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logist - geologist that studies earthquakes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meters measure waves frequency and 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102120"/>
            <a:ext cx="4800600" cy="3755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14840" y="3129120"/>
            <a:ext cx="45291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gram - records the arrival of eac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vel-Time Cur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Y ATTENTION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’ll need this for your la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ime difference between the P &amp; S waves can tell you the dist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632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ues to earth’s interior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679840" y="1616040"/>
            <a:ext cx="57783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Stres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- force per unit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ures form when stress exceeds the strength of the rocks invol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types of str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ession, tension and sh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Stres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St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429000" cy="321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4116240"/>
            <a:ext cx="3581280" cy="274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218280" y="1828800"/>
            <a:ext cx="292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Strain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in - the deformation of a material caused by st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stress = elast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stretching like a rubber band, it stretches and ret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ctile deformation = plast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al is permanently defo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ttle = material breaks, stress limit is exc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orces within Earth:Stress &amp; Strain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929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Fault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ult - fracture or system of fractures where movement occurs when stress is applied too quick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types of faul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irs with tension stress)</a:t>
            </a: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irs with compression stress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ke-slip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irs with shear st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Fault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88776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965240" y="1752480"/>
            <a:ext cx="5578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stress builds beneath the surface, rocks can reach their elastic limit causing them to break and producing an earthqu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brations of the ground are called seismic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types of seism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y waves travel below Earth’s surface, include: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P-waves)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econd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S-wav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aves - travel on Earth’s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22:54:54Z</dcterms:created>
  <dc:creator>PA Department of Education</dc:creator>
  <dc:description/>
  <dc:language>en-US</dc:language>
  <cp:lastModifiedBy>PA Department of Education</cp:lastModifiedBy>
  <dcterms:modified xsi:type="dcterms:W3CDTF">2008-02-19T00:23:06Z</dcterms:modified>
  <cp:revision>18</cp:revision>
  <dc:subject/>
  <dc:title>Earthquakes</dc:title>
</cp:coreProperties>
</file>